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7962900" cy="6059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53B-23FE-40D2-A21A-AB7CEAE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160" y="350316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60F-586C-4C6E-90F3-376F965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070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39B-69CD-48CA-9501-4E5EAEF8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2132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24412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816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82132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24412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BD9-1E32-4ED6-8D6F-64CF1A52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861-A30A-4101-B5FF-7B48EC8C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1EC5-052F-470F-9577-022B71F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681-A186-4221-BE72-36ECCAE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CBF-4958-4585-AFD4-3E1FDD9C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8679-10C5-42E7-8FB1-D9F92F6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98160" y="245880"/>
            <a:ext cx="7165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2C8-DAC2-4D32-A8FB-049A7A4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7CC2-BFCC-4599-AC2F-202B09D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D19-9F14-4704-B983-2357584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70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7475-2B33-4995-9F54-097A96E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862A-DC8A-4672-B549-9B5701B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8160" y="350316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6E76-F83C-466A-A25E-E3D88EC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070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A5E-93C1-4AC2-9AE4-838FEE8F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2132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44120" y="141264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9816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2132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244120" y="3503160"/>
            <a:ext cx="230724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170-E8B7-4921-9E42-B00FC07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F0E-C201-410E-89E0-CA4C9D3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6C0-7DAD-44F4-AF98-29834BB8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5E9-8FAB-4718-9A43-B29B359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98160" y="245880"/>
            <a:ext cx="7165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612-1936-43B9-AE84-363569A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8BE-DF9C-40E8-9D0C-D4F9572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0160" y="350316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C32-069E-4B2F-907C-4A25033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8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0160" y="1412640"/>
            <a:ext cx="349668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8160" y="3503160"/>
            <a:ext cx="7165800" cy="190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DFF-20FB-4DC8-B152-A2F6BE8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446640"/>
            <a:ext cx="2960640" cy="2604960"/>
            <a:chOff x="0" y="3446640"/>
            <a:chExt cx="2960640" cy="2604960"/>
          </a:xfrm>
        </p:grpSpPr>
        <p:sp>
          <p:nvSpPr>
            <p:cNvPr id="1" name="Freeform 3"/>
            <p:cNvSpPr/>
            <p:nvPr/>
          </p:nvSpPr>
          <p:spPr>
            <a:xfrm>
              <a:off x="0" y="3516840"/>
              <a:ext cx="2960640" cy="2529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446640"/>
              <a:ext cx="2562480" cy="260496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35080"/>
              <a:ext cx="2411640" cy="22107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566880"/>
              <a:ext cx="2411640" cy="2478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288720" y="3903840"/>
              <a:ext cx="118440" cy="120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122560" y="5445720"/>
              <a:ext cx="127080" cy="128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092960" y="3818160"/>
              <a:ext cx="167040" cy="1692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0880" indent="-2509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98160" y="551988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720520" y="551988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706720" y="551988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8DC-F860-4CB2-9B1E-C974AAF0B44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446640"/>
            <a:ext cx="2960640" cy="2604960"/>
            <a:chOff x="0" y="3446640"/>
            <a:chExt cx="2960640" cy="2604960"/>
          </a:xfrm>
        </p:grpSpPr>
        <p:sp>
          <p:nvSpPr>
            <p:cNvPr id="50" name="Freeform 3"/>
            <p:cNvSpPr/>
            <p:nvPr/>
          </p:nvSpPr>
          <p:spPr>
            <a:xfrm>
              <a:off x="0" y="3516840"/>
              <a:ext cx="2960640" cy="2529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446640"/>
              <a:ext cx="2562480" cy="260496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3835080"/>
              <a:ext cx="2411640" cy="22107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3566880"/>
              <a:ext cx="2411640" cy="24789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288720" y="3903840"/>
              <a:ext cx="118440" cy="120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122560" y="5445720"/>
              <a:ext cx="127080" cy="128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092960" y="3818160"/>
              <a:ext cx="167040" cy="1692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98160" y="1412640"/>
            <a:ext cx="7165800" cy="4002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0880" indent="-2509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01800" indent="-2001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398160" y="551988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720520" y="5519880"/>
            <a:ext cx="252108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5706720" y="551988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D99A-5972-4C57-94F9-9DC9637F70A3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611360" y="2016000"/>
            <a:ext cx="489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ла духа над матери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30680" y="3676680"/>
            <a:ext cx="3295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полнил: Дьяконов Серё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ик 8 «б»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уководитель: Кирилина Т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1149150819_207"/>
          <p:cNvPicPr/>
          <p:nvPr/>
        </p:nvPicPr>
        <p:blipFill>
          <a:blip r:embed="rId1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3765600" y="4684680"/>
            <a:ext cx="3968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: Дьяконов Серё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еник 10 «б»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ь: Кирилина Т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83240" y="2330280"/>
            <a:ext cx="4078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ла духа над матер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251720" y="149400"/>
            <a:ext cx="5247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У «Намская средняя общеобразовательная школа №2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 «Намский улус РС(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4960" y="2373480"/>
            <a:ext cx="7012080" cy="2301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spcBef>
                <a:spcPts val="4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8389800" y="4419720"/>
          <a:ext cx="666288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9800" y="4419720"/>
                    <a:ext cx="666288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21"/>
          <p:cNvSpPr/>
          <p:nvPr/>
        </p:nvSpPr>
        <p:spPr>
          <a:xfrm>
            <a:off x="1604880" y="436680"/>
            <a:ext cx="49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 исследования:</a:t>
            </a:r>
            <a:r>
              <a:rPr b="0" lang="ru-RU" sz="3600" spc="-1" strike="noStrike">
                <a:solidFill>
                  <a:srgbClr val="010199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7" descr="фото4"/>
          <p:cNvPicPr/>
          <p:nvPr/>
        </p:nvPicPr>
        <p:blipFill>
          <a:blip r:embed="rId3"/>
          <a:stretch/>
        </p:blipFill>
        <p:spPr>
          <a:xfrm>
            <a:off x="1749600" y="4181400"/>
            <a:ext cx="1072800" cy="1623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9"/>
          <p:cNvSpPr/>
          <p:nvPr/>
        </p:nvSpPr>
        <p:spPr>
          <a:xfrm>
            <a:off x="1657440" y="304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1389240" y="2884320"/>
            <a:ext cx="49352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 приме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р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жизни литер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турных героев док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азать возм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жности превосходства сознания над бы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4" descr="1152685783_15_kartinki_ziza_151950"/>
          <p:cNvPicPr/>
          <p:nvPr/>
        </p:nvPicPr>
        <p:blipFill>
          <a:blip r:embed="rId4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платонов"/>
          <p:cNvPicPr/>
          <p:nvPr/>
        </p:nvPicPr>
        <p:blipFill>
          <a:blip r:embed="rId5"/>
          <a:stretch/>
        </p:blipFill>
        <p:spPr>
          <a:xfrm>
            <a:off x="6286680" y="291960"/>
            <a:ext cx="1512720" cy="208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chehov-photo-4"/>
          <p:cNvPicPr/>
          <p:nvPr/>
        </p:nvPicPr>
        <p:blipFill>
          <a:blip r:embed="rId6"/>
          <a:stretch/>
        </p:blipFill>
        <p:spPr>
          <a:xfrm>
            <a:off x="236520" y="365040"/>
            <a:ext cx="1474920" cy="2086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фото3"/>
          <p:cNvPicPr/>
          <p:nvPr/>
        </p:nvPicPr>
        <p:blipFill>
          <a:blip r:embed="rId7"/>
          <a:stretch/>
        </p:blipFill>
        <p:spPr>
          <a:xfrm>
            <a:off x="309600" y="3533760"/>
            <a:ext cx="173664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1156906069_7"/>
          <p:cNvPicPr/>
          <p:nvPr/>
        </p:nvPicPr>
        <p:blipFill>
          <a:blip r:embed="rId8"/>
          <a:stretch/>
        </p:blipFill>
        <p:spPr>
          <a:xfrm>
            <a:off x="6068880" y="3605040"/>
            <a:ext cx="1729080" cy="1893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5"/>
          <p:cNvSpPr/>
          <p:nvPr/>
        </p:nvSpPr>
        <p:spPr>
          <a:xfrm>
            <a:off x="380880" y="1949400"/>
            <a:ext cx="705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10199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10199"/>
                </a:solidFill>
                <a:latin typeface="Times New Roman"/>
              </a:rPr>
              <a:t>на примере жизни литературных героев доказать возможности превосходства сознания над бы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8160" y="245880"/>
            <a:ext cx="7165800" cy="100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3440" y="1662120"/>
            <a:ext cx="6777000" cy="3665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.Рассмотреть взгляды философов о понятиях «духовное» и «материально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.Проанализировать жизнь героев литературных произ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3.Доказать возможность превосходства духовного начала над материальным миром на примере жизни литературных геро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25600" y="1515960"/>
            <a:ext cx="66643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1.Рассмотреть взгляды философов о понятиях «духовное» и «материально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2.Проанализировать жизнь героев литературных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3.Доказать возможность превосходства духовного начала над материальным миром на примере жизни литератур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32"/>
          <p:cNvPicPr/>
          <p:nvPr/>
        </p:nvPicPr>
        <p:blipFill>
          <a:blip r:embed="rId1"/>
          <a:stretch/>
        </p:blipFill>
        <p:spPr>
          <a:xfrm>
            <a:off x="0" y="17640"/>
            <a:ext cx="7962840" cy="604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596880" y="1300320"/>
            <a:ext cx="63356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Рассмотреть взгляды философов о понятиях «духовное» и «материально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.Проанализировать жизнь героев литературных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.Доказать возможность превосходства духовного начала над материальным миром на примере жизни литератур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2" descr="1149150819_84_1024"/>
          <p:cNvPicPr/>
          <p:nvPr/>
        </p:nvPicPr>
        <p:blipFill>
          <a:blip r:embed="rId2"/>
          <a:stretch/>
        </p:blipFill>
        <p:spPr>
          <a:xfrm>
            <a:off x="0" y="0"/>
            <a:ext cx="7962840" cy="6000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668160" y="797040"/>
            <a:ext cx="66963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Рассмотреть взгляды философов о понятиях «духовное» и «материально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Проанализировать жизнь героев литературных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Доказать возможность превосходства духовного начала над материальным миром на примере жизни литературных геро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1173240" y="1444680"/>
            <a:ext cx="633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смысла жизни учащими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117960" y="652320"/>
            <a:ext cx="207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ипот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3" descr="1149150819_143"/>
          <p:cNvPicPr/>
          <p:nvPr/>
        </p:nvPicPr>
        <p:blipFill>
          <a:blip r:embed="rId1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380880" y="1876320"/>
            <a:ext cx="6985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при обучении курса литературы в школе рассматривать жизнь героев</a:t>
            </a:r>
            <a:r>
              <a:rPr b="1" i="1" lang="ru-RU" sz="2400" spc="-1" strike="noStrike">
                <a:solidFill>
                  <a:srgbClr val="010199"/>
                </a:solidFill>
                <a:latin typeface="Times New Roman"/>
              </a:rPr>
              <a:t> произведений с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философской точки зрения, </a:t>
            </a:r>
            <a:r>
              <a:rPr b="1" i="1" lang="ru-RU" sz="2400" spc="-1" strike="noStrike">
                <a:solidFill>
                  <a:srgbClr val="010199"/>
                </a:solidFill>
                <a:latin typeface="Times New Roman"/>
              </a:rPr>
              <a:t>то это будет боле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доступным средством для понятия </a:t>
            </a:r>
            <a:r>
              <a:rPr b="1" i="1" lang="ru-RU" sz="2400" spc="-1" strike="noStrike">
                <a:solidFill>
                  <a:srgbClr val="010199"/>
                </a:solidFill>
                <a:latin typeface="Times New Roman"/>
              </a:rPr>
              <a:t>смысл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зни учащими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958840" y="1249200"/>
            <a:ext cx="1766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пот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"/>
          <p:cNvSpPr/>
          <p:nvPr/>
        </p:nvSpPr>
        <p:spPr>
          <a:xfrm>
            <a:off x="1749600" y="581040"/>
            <a:ext cx="4184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овизн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илософское восприятие жизни героев литературных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5" descr="1149150819_9712"/>
          <p:cNvPicPr/>
          <p:nvPr/>
        </p:nvPicPr>
        <p:blipFill>
          <a:blip r:embed="rId1"/>
          <a:stretch/>
        </p:blipFill>
        <p:spPr>
          <a:xfrm>
            <a:off x="0" y="0"/>
            <a:ext cx="7962840" cy="603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фото4"/>
          <p:cNvPicPr/>
          <p:nvPr/>
        </p:nvPicPr>
        <p:blipFill>
          <a:blip r:embed="rId2"/>
          <a:stretch/>
        </p:blipFill>
        <p:spPr>
          <a:xfrm>
            <a:off x="0" y="149400"/>
            <a:ext cx="183816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юшка"/>
          <p:cNvPicPr/>
          <p:nvPr/>
        </p:nvPicPr>
        <p:blipFill>
          <a:blip r:embed="rId3"/>
          <a:stretch/>
        </p:blipFill>
        <p:spPr>
          <a:xfrm>
            <a:off x="6021360" y="149400"/>
            <a:ext cx="1941480" cy="25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цветок"/>
          <p:cNvPicPr/>
          <p:nvPr/>
        </p:nvPicPr>
        <p:blipFill>
          <a:blip r:embed="rId4"/>
          <a:stretch/>
        </p:blipFill>
        <p:spPr>
          <a:xfrm>
            <a:off x="165240" y="2957400"/>
            <a:ext cx="2158920" cy="288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фото3"/>
          <p:cNvPicPr/>
          <p:nvPr/>
        </p:nvPicPr>
        <p:blipFill>
          <a:blip r:embed="rId5"/>
          <a:stretch/>
        </p:blipFill>
        <p:spPr>
          <a:xfrm>
            <a:off x="5565600" y="2957400"/>
            <a:ext cx="2170440" cy="2881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6"/>
          <p:cNvSpPr/>
          <p:nvPr/>
        </p:nvSpPr>
        <p:spPr>
          <a:xfrm>
            <a:off x="2036880" y="1589040"/>
            <a:ext cx="396864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imes New Roman"/>
              </a:rPr>
              <a:t>Новиз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</a:rPr>
              <a:t>философское восприятие жизни героев литературных произве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596880" y="1515960"/>
            <a:ext cx="7056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Times New Roman"/>
              </a:rPr>
              <a:t>чтение и анализ произведений “Юшка”, “Неизвестный цветок” Платонова А.П., “Человек в футляре”, “Палата №6” Чехова А.П., сравнение мировоззрения главных героев, наблюдение за их поступ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752480" y="652320"/>
            <a:ext cx="481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тод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"/>
          <p:cNvSpPr/>
          <p:nvPr/>
        </p:nvSpPr>
        <p:spPr>
          <a:xfrm>
            <a:off x="4542120" y="727200"/>
            <a:ext cx="2164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7" descr="SPACE014"/>
          <p:cNvPicPr/>
          <p:nvPr/>
        </p:nvPicPr>
        <p:blipFill>
          <a:blip r:embed="rId2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8"/>
          <p:cNvSpPr/>
          <p:nvPr/>
        </p:nvSpPr>
        <p:spPr>
          <a:xfrm>
            <a:off x="2048760" y="431640"/>
            <a:ext cx="40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илософия бы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533960" y="1373040"/>
            <a:ext cx="1478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ух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4919040" y="1373040"/>
            <a:ext cx="2201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4487760" y="3460680"/>
            <a:ext cx="1452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и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 flipH="1">
            <a:off x="5133960" y="1949400"/>
            <a:ext cx="503280" cy="144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6068880" y="1949400"/>
            <a:ext cx="0" cy="10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5135040" y="2957400"/>
            <a:ext cx="1934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>
            <a:off x="6645240" y="2021040"/>
            <a:ext cx="649440" cy="15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8"/>
          <p:cNvSpPr/>
          <p:nvPr/>
        </p:nvSpPr>
        <p:spPr>
          <a:xfrm>
            <a:off x="6789960" y="3533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380880" y="1876320"/>
            <a:ext cx="4052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ша – Духовность - Доб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2325600" y="2308320"/>
            <a:ext cx="0" cy="72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2757600" y="2308320"/>
            <a:ext cx="503280" cy="10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5"/>
          <p:cNvSpPr/>
          <p:nvPr/>
        </p:nvSpPr>
        <p:spPr>
          <a:xfrm flipH="1">
            <a:off x="1389240" y="2308320"/>
            <a:ext cx="576000" cy="10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382320" y="3460680"/>
            <a:ext cx="115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1677960" y="3029040"/>
            <a:ext cx="123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ас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2829240" y="346068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3"/>
          <p:cNvPicPr/>
          <p:nvPr/>
        </p:nvPicPr>
        <p:blipFill>
          <a:blip r:embed="rId1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596880" y="1733400"/>
            <a:ext cx="66978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возможно действовать, не имея цели. Любые действия завязаны мыслью, т.е. осознанием того, что это нужно, что без этого нельзя обойтись. Мысль опережает действие, предшествует 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2" descr="ARMENIA2"/>
          <p:cNvPicPr/>
          <p:nvPr/>
        </p:nvPicPr>
        <p:blipFill>
          <a:blip r:embed="rId1"/>
          <a:stretch/>
        </p:blipFill>
        <p:spPr>
          <a:xfrm>
            <a:off x="0" y="0"/>
            <a:ext cx="7962840" cy="6058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3"/>
          <p:cNvSpPr/>
          <p:nvPr/>
        </p:nvSpPr>
        <p:spPr>
          <a:xfrm>
            <a:off x="2716920" y="503280"/>
            <a:ext cx="302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Times New Roman"/>
              </a:rPr>
              <a:t>Дух первич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4"/>
          <p:cNvSpPr/>
          <p:nvPr/>
        </p:nvSpPr>
        <p:spPr>
          <a:xfrm>
            <a:off x="1317600" y="1300320"/>
            <a:ext cx="1219320" cy="914400"/>
          </a:xfrm>
          <a:prstGeom prst="pie">
            <a:avLst/>
          </a:prstGeom>
          <a:gradFill rotWithShape="0">
            <a:gsLst>
              <a:gs pos="0">
                <a:srgbClr val="0033cc"/>
              </a:gs>
              <a:gs pos="50000">
                <a:srgbClr val="ffffff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3453120" y="1373040"/>
            <a:ext cx="142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б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5925960" y="1443960"/>
            <a:ext cx="1143000" cy="685800"/>
          </a:xfrm>
          <a:prstGeom prst="pie">
            <a:avLst/>
          </a:prstGeom>
          <a:gradFill rotWithShape="0">
            <a:gsLst>
              <a:gs pos="0">
                <a:srgbClr val="0033cc"/>
              </a:gs>
              <a:gs pos="50000">
                <a:srgbClr val="ffffff"/>
              </a:gs>
              <a:gs pos="100000">
                <a:srgbClr val="0033cc"/>
              </a:gs>
            </a:gsLst>
            <a:lin ang="27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861480" y="2741760"/>
            <a:ext cx="133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воб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5815440" y="2597040"/>
            <a:ext cx="1875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Милосерд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9"/>
          <p:cNvSpPr/>
          <p:nvPr/>
        </p:nvSpPr>
        <p:spPr>
          <a:xfrm flipH="1">
            <a:off x="1100880" y="3749760"/>
            <a:ext cx="1143000" cy="838080"/>
          </a:xfrm>
          <a:prstGeom prst="pie">
            <a:avLst/>
          </a:prstGeom>
          <a:gradFill rotWithShape="0">
            <a:gsLst>
              <a:gs pos="0">
                <a:srgbClr val="0033cc"/>
              </a:gs>
              <a:gs pos="50000">
                <a:srgbClr val="ffffff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976120" y="41083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Любовь к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1"/>
          <p:cNvSpPr/>
          <p:nvPr/>
        </p:nvSpPr>
        <p:spPr>
          <a:xfrm flipH="1" flipV="1">
            <a:off x="5853240" y="3675960"/>
            <a:ext cx="1218960" cy="1066680"/>
          </a:xfrm>
          <a:prstGeom prst="pie">
            <a:avLst/>
          </a:prstGeom>
          <a:gradFill rotWithShape="0">
            <a:gsLst>
              <a:gs pos="0">
                <a:srgbClr val="0033cc"/>
              </a:gs>
              <a:gs pos="50000">
                <a:srgbClr val="ffffff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3120120" y="2597040"/>
            <a:ext cx="2417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мысл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41:58Z</dcterms:created>
  <dc:creator>Кириллина</dc:creator>
  <dc:description/>
  <dc:language>en-US</dc:language>
  <cp:lastModifiedBy>Татьяна</cp:lastModifiedBy>
  <dcterms:modified xsi:type="dcterms:W3CDTF">2002-12-31T16:09:59Z</dcterms:modified>
  <cp:revision>94</cp:revision>
  <dc:subject/>
  <dc:title>Сила духа над материей</dc:title>
</cp:coreProperties>
</file>